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6AD-0585-4875-BA58-04E4440B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A6E-7253-47C7-9079-F3C4007C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6FA-5259-4686-B826-FABCC89F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9BA-9715-460C-83F2-75B9C1AE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81D5-9FED-4B34-B67F-DE7E59F3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61DE-742B-48DA-9F97-544835B5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4A31-20C9-42CE-86EA-85C90E4B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B362-92BB-4118-BAA5-73E59FAB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0348-7519-4AE7-8DCF-EB389C77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7998-3F4F-4585-A15C-CF9726BA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8417-2BE6-4503-B615-71950040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9F6-D0AD-49FF-8F02-524752C4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59C2-74DD-49F6-89DE-84A3872F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A97A-6CDE-4C7A-8AC3-52315902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E10A-28CD-46DB-A27C-78C408E0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AB0E-734C-41E9-B3BE-16EBB96B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6641-B80F-4D04-9D2E-36CEE33F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DDB-DFE1-46D0-9ECA-87A258BA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142-C32F-48F4-BCDA-4CDC8CFC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A38-EB2E-40C6-B65D-9628BF2F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B9A-E106-4F5C-B2EA-9C953D8C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B95-1894-4ECB-BE1C-6150ED2D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E5C-AEEA-4B08-B208-147562E3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C54-A6DD-4A80-9799-A2A69DA5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2522-BC1B-420C-827F-4DEAA6BBA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C072-EEBF-4FBA-B137-A1EAD9594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2720" y="53352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ituição de 196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600200"/>
            <a:ext cx="86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. 8°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mpete à União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 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XVII - legislar sobr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h) jazidas, minas e outros recursos minerais; metalurgia; florestas, caça e pesca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) águas, energia elétrica e telecomunicaçõe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na Salett</cp:lastModifiedBy>
  <dcterms:modified xsi:type="dcterms:W3CDTF">2004-08-10T21:25:19Z</dcterms:modified>
  <cp:revision>75</cp:revision>
  <dc:subject/>
  <dc:title>Apresentação do PowerPoint</dc:title>
</cp:coreProperties>
</file>